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2B5-992C-4708-BC7D-525A54B8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A86-AF25-4E65-8D46-B332CF4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D72-B17B-4091-85A4-F3928A33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AAA-9A35-4422-96B2-DC426D29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5E2-18D9-4CCD-9557-A02AE913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C549-5CCB-4337-9C7F-B2C755D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199-1BE2-47AD-884D-0CF6634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45B4-6D0D-4E1D-A279-AFD582F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268-CB1C-4BD4-B666-CB4DC858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35F0-A50C-4F23-9BE6-2FE23A8C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B98D-5E5B-4744-AB7C-DE8FEA5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DBC-FD08-4800-BF0F-44485A0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0D09-96D1-4ACC-B52E-5298D42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EB00-061E-4A04-8E3E-F0C012E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75A-8B78-4D39-987E-D7E01E4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9E56-53A7-4285-831F-CC1FBA72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8BA1-AAD6-4B2D-91F6-4E144EA6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315A-CCB6-495B-96A4-861C4F93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52A2-0C64-4561-956D-03F95CC6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3772-EE00-4BF9-A765-DD0EF728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E025-CE50-48E6-9EAC-27A57E5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AA9B-802C-4382-BB8E-CE0DCD29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D3B-EB9E-4AF6-8707-9CC0A55F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5F4C-5237-4FC1-8684-B109EC7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9698-A8FF-4EC0-9C41-6D8FF24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9201-1FC1-44A5-AA0B-C18A016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B573-79F2-4E5C-B574-B8251CA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ED46-F399-4E1A-87D7-A1B85944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25D9-73AC-4DA0-863A-A94E42CD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1DB9-3909-4429-9BAA-29516908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1938-A524-47CB-93CE-9FA60A7E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C1ED-5A6D-457A-AC56-2B55752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42B8-36D3-4CCD-956A-C993B38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87C-C71C-42D1-A7D8-7DFEDD54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8B67-73E0-45C7-90DB-80EE919E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54B3-52FB-46C4-BD05-7A1222D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945C-B476-4B41-8932-3B0C5CE0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9ACC0-1B0C-4534-9BE8-F1662F1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5DA2-3FBC-4690-903F-4490A310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33CF-6A1A-4264-8BA3-8F80F43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3E2E-0647-42A9-A8AE-6BB9F2CC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9986-CBD9-4802-928A-3849A2C2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6286-95D9-4F98-B1D6-DE5169D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D856-7FCD-4CAF-A3CA-81E45083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689-2EB4-43CC-9688-130B79A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13B7F-2B1C-473E-AB70-689816F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00F2-D21B-4624-85DF-61D8371A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59C51-ADBA-4C1C-AB57-30FF5FC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2365-7E21-4352-B329-7337A85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5859-8F13-4F5B-A476-762E926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B46B-0FCA-4651-8E0D-3D330E7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CAFD-617F-4F2F-A428-6F20C4A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BAAF-EAB6-482F-9F30-5F8F446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0072-05C6-459F-B9B7-1E5CA1E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DC742-4D72-44D8-BB62-A1031372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42A-2664-4CB2-86E4-6B20815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B9F6-E761-44A2-8172-850773FE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98BC-A579-420C-893E-7F9CBBEC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61B4-0D3C-43C8-97DE-49515914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77B0-D3E5-4F1D-84CB-AEFCABE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A866-09A4-4153-8E26-9963975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6F30-D4C3-4AC1-BB26-BCCF4AA0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9AE93-9D1B-4364-8428-65FA9429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3306-0384-4BBD-934F-74EB1F0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E07C-40D7-41AE-8826-2133D1F4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43714-036E-4BE0-8016-81D6154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E02-8CA8-4698-8CF2-1486D3A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2A2D-7E29-4E80-B051-F27A868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5740-B3DD-48E2-8C6F-DC389880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3111-E9F5-439E-B0CA-DE1E3F79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9732-80EC-4C34-91DD-91052223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8E2CA-8DA0-4030-881C-10A75EA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08C4-22BC-4C36-8391-96368C6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B34A-E916-47CC-9426-941B1B2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1B19C-BFFA-42C7-B714-DA7746B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D4E1-CA5C-4B95-8093-34453C8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4DEB-3C19-4A91-9E39-FCD54C4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B95-6822-46A1-A73A-7747111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2E41-AD7B-4823-A410-4464CFA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A64CB-AA18-4E0C-9D67-098FE45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C9BA-1A76-42E1-B1F2-73365A6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930E-94A0-4C4F-A503-970E4ED1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3946-70D3-4DF0-8EA2-B1F14754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E8A4-9E4E-45F5-A378-85B2DBE8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6ADB-7071-4BA9-A84E-BDBF5B3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3C20-8F05-45B3-8EE4-9005525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91CC-3F6F-4E5E-8860-BD33CCB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4EEF-AC1D-4D8C-8E90-576AD3A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139-9056-48C8-B771-6174B5D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D216-C4E8-4F23-9C89-5D70BCD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98E8-AF90-4624-80E5-5B80249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D6D4-90E6-4215-9F51-ED66071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08E1-05D3-442D-869C-18FDDB4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EE813-B546-42C6-A7DB-2A66EB3C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5839-C5A5-4FFC-9F72-2D3BFF54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C6D9B-0A42-418E-BF31-9079D008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3374-6F3A-4CC7-AC43-4387ED3366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92C-990E-4C5B-B0D8-1AAF796FBB3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01D-E80E-4207-BC86-3AB4D6AE71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927-B2BB-4CCA-AC82-3719E99AA9C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5DC-B84D-4931-A064-2B9A1BF9A8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962-C8C3-4DB3-9908-1824262383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138-A462-4E93-B3CC-12AE329406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9E2-3CB5-463B-AA06-A930969FD39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GHkHMoyC5I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istory and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743200" cy="2422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6781680" y="411480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chemist Erwin Chargaff also noted that the ratios of certain bases was a relative cons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noted [A] = [T] and [G] =[C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on this l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0670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rrangements of covalent bonds was also establ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981080" y="0"/>
            <a:ext cx="4800600" cy="6878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6248520" y="21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ni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5334120" y="685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enin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6400800" y="48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594360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ytosine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x-ray crystallography work from Rosalind Frank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 work showed that DNA was heli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38149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ick deduced that the molecule had a set width, and was made up of two str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nce the term, double helix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as opposed to Linus Pauling’s assertion that it was a triple hel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nitially placing the sugar-phosphate groups on the inside (incorrectly), Watson placed them on the outside, forcing the nitrogenous bases to swivel to the in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reated the famous spiral ladder model known to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trial and error, they determined that purines paired with pyrimidines (gave correct wid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as known as base pairing, held together by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056120" cy="2971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4510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explained Chargaff’s observ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3341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been known in early 1900’s that DNA and protein made up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 had not been determi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y to its discovery was studying appropriate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is case, viruses and bacter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DNA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dical officer studying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reptococcus pneumoni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ed on two stra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produced smooth colonies and was pathogen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other produced rough colonies and was ine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smooth bacteria was killed via heat, they were harml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xed heat-killed smooth with living 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ce caught pneumon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s, the pathogenicity was inheri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lared that the harmless has been “transformed” by path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phenomena trans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to determine molecule responsible for trans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ified proteins, lipids, carbs, and DNA of the heat-killed bacteria to see which wor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y DNA was successfu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nounced DNA was genetic carr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evidence was required (proteins thought to be more importan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743960" y="0"/>
            <a:ext cx="11714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a common virus called T2 bacterioph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own that genetic material was passed from virus to bacte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radiolab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osphorus-32 used to mark the DN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lfur-35 used to mark the protei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dioactivity was detected only when phosphorus-32 was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: DNA is the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143000" y="743040"/>
            <a:ext cx="6858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t was accepted that DNA carried the genetic information, structure became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 known that DNA consisted of three compon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trogenous ba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ntose sugar called deoxyrib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osphate grou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were four bases identified: adenine (A), thymine (T), cytosine (C) and guanine (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13:33Z</dcterms:created>
  <dc:creator>ED18</dc:creator>
  <dc:description/>
  <dc:language>en-US</dc:language>
  <cp:lastModifiedBy>ED18</cp:lastModifiedBy>
  <dcterms:modified xsi:type="dcterms:W3CDTF">2012-02-20T12:22:59Z</dcterms:modified>
  <cp:revision>63</cp:revision>
  <dc:subject/>
  <dc:title>Deoxyribonucleic Acid</dc:title>
</cp:coreProperties>
</file>